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BE7-5882-4F47-9FF0-4E51277A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417-7969-4113-8DB4-4299FDF9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E0C-4561-4E90-B9C0-ADF266F5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D09-FBE5-4693-AE8D-FDBC215B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9B4B-F383-4D88-AC70-13EE448E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50EB-4D2A-4FCD-A36D-084B14B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40E7-C66F-43EA-8A55-9B5ED706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EBC-B6AA-458B-8AEA-5FDD2B95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7CE-AEB2-4B72-A35E-F0CFC99A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41F-53BE-44FB-9950-7BB69799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C817-A5A3-476F-9331-6BC054E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FB4-0C4A-408B-9B84-430E5C3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C6EE-539B-4AE5-9661-ECE5D1A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B993-34E9-4F0D-B776-7F4D2DB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AFE9-FAA0-435A-9D03-DD6298B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081C-EC6E-4A96-BFC1-B352B8FA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AC5-795A-41C0-97A4-40D918AC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8AB-1EC6-4B83-BBF5-3E5BE6D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069-B380-47AD-B9EC-B4D8E62E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2DF-A55B-4955-B7EB-872FD50C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2E4-0EB2-4A94-B879-4476818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37D-7D33-40E6-99DC-59FEE9B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0C1-6376-45B0-9A9C-0E536F8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F5C-E157-4864-ADC2-EF798ED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46B-5C0C-4B1F-A257-B32E2ED1652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C6E5-BACB-484E-B74E-63769ED2E9B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Personal Learning Profi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annah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s important to learn how your brain works because you will need it for later in life wich I have not gotten to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can use what I have learned about the way my brain works in school. I can do this when I cant figure out a hard probl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learning style is Tactile/ Kinesthetic and visual learn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means I learn best by doing, reading, and viewing info in prin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learning technique is concrete sequentia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means I am realistic, orderly, logical and careful of detail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found out that the left side of my brain is dominate, and the right is less domina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intelligence type is street – wi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at means I can work things too my advantag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32:40Z</dcterms:created>
  <dc:creator>student</dc:creator>
  <dc:description/>
  <dc:language>en-US</dc:language>
  <cp:lastModifiedBy>student</cp:lastModifiedBy>
  <dcterms:modified xsi:type="dcterms:W3CDTF">2010-12-08T16:31:42Z</dcterms:modified>
  <cp:revision>4</cp:revision>
  <dc:subject/>
  <dc:title>My Personal Learning Profile</dc:title>
</cp:coreProperties>
</file>